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62D0-911B-445B-B38F-1B6FBA6F4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3E833-2F74-4309-8910-EAA9419C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6E25B-070F-4E77-89DB-8F2118ECF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15D94-860A-400D-BBA3-54B3375CD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F36F2-3891-4A37-B800-A198A2873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870C2-76B1-4D6A-9EA9-53B7F11EB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C5FF6-5C97-412D-A0A4-D1E7429B9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787CA-621D-46FB-9B2E-A8D46512D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495E1-CD0F-4BAE-ABB2-3C5A68FEC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13400-AA72-42EB-85A2-2BD606ED2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6175D-FAF9-4BC9-8096-4AD81CA50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DE88-35A4-4BB2-954E-3DEF2A2B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660A6-EC7F-41B4-B55B-6BD9D7FB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FC52F-248C-40C4-AB6B-FCDE5FC27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C7132-6F72-4B7B-8671-052EC6558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412D2-3F57-49FB-A414-9D94B784C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5E19C-3EFA-49BB-89D3-B1F98F511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EFCE-7AAB-4542-8537-BD9766E6C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C87B-C671-4B14-A878-45AB22F78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6103-2599-46FE-9F6D-D40B6993D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FE2B-DB39-4CF7-829E-BD117AECF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CCEE-72DC-4C6E-B753-1067A9A4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BB96A-2051-4F4A-8890-866B7B40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350F4-B3C2-4727-869E-90D13DAAE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9302-68B6-4477-8F83-6FE03C6A3B76}"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3693-A7C0-428A-A1D6-5E3565810C36}"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5400" spc="-1" strike="noStrike">
                <a:solidFill>
                  <a:srgbClr val="ffcc66"/>
                </a:solidFill>
                <a:latin typeface="Arial"/>
              </a:rPr>
              <a:t>Workshop</a:t>
            </a:r>
            <a:endParaRPr b="0" lang="en-US" sz="54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5400" spc="-1" strike="noStrike">
                <a:solidFill>
                  <a:srgbClr val="ffcc66"/>
                </a:solidFill>
                <a:latin typeface="Arial"/>
              </a:rPr>
              <a:t>Negative brainstorming</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scussions in groups</a:t>
            </a:r>
            <a:endParaRPr b="0" lang="en-US" sz="4400" spc="-1" strike="noStrike">
              <a:solidFill>
                <a:srgbClr val="ffcc66"/>
              </a:solidFill>
              <a:latin typeface="Arial"/>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1:   9.50 – 10.10</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2: 10.50 – 11.10</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3: 11.50 – 12.10</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Groups 1 and 2: find ways to make sure as many people as possible drive as drunk as possible</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Groups 3 and 4: find ways to make sure as many people as possible eat as unhealthy as possible</a:t>
            </a:r>
            <a:r>
              <a:rPr b="0" lang="nl-NL" sz="2400" spc="-1" strike="noStrike">
                <a:solidFill>
                  <a:srgbClr val="ffcc66"/>
                </a:solidFill>
                <a:latin typeface="Arial"/>
                <a:ea typeface="Times New Roman"/>
              </a:rPr>
              <a:t> </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Groups 5 and 6: find ways to make sure as many people as possible experience as much workrelated stress as pos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llective evaluation</a:t>
            </a:r>
            <a:endParaRPr b="0" lang="en-US" sz="4400" spc="-1" strike="noStrike">
              <a:solidFill>
                <a:srgbClr val="ffcc66"/>
              </a:solidFill>
              <a:latin typeface="Arial"/>
            </a:endParaRPr>
          </a:p>
        </p:txBody>
      </p:sp>
      <p:sp>
        <p:nvSpPr>
          <p:cNvPr id="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1: 10.10 – 10.3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2: 11.10 – 11.3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3: 12.10 – 12.30</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one spokesperson per group can comment on the ideas the group has generated</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per group - select the best idea the group has generated</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r</a:t>
            </a:r>
            <a:r>
              <a:rPr b="0" lang="en-GB" sz="2800" spc="-1" strike="noStrike">
                <a:solidFill>
                  <a:srgbClr val="ffcc66"/>
                </a:solidFill>
                <a:latin typeface="Arial"/>
                <a:ea typeface="Arial"/>
              </a:rPr>
              <a:t>everse this idea to come up with the best solution for the initial probl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me schedule workshop round 1</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  </a:t>
            </a:r>
            <a:r>
              <a:rPr b="0" lang="en-GB" sz="3200" spc="-1" strike="noStrike">
                <a:solidFill>
                  <a:srgbClr val="ffcc66"/>
                </a:solidFill>
                <a:latin typeface="Arial"/>
                <a:ea typeface="Arial"/>
              </a:rPr>
              <a:t>9.30 –   9.4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  </a:t>
            </a:r>
            <a:r>
              <a:rPr b="0" lang="en-GB" sz="3200" spc="-1" strike="noStrike">
                <a:solidFill>
                  <a:srgbClr val="ffcc66"/>
                </a:solidFill>
                <a:latin typeface="Arial"/>
                <a:ea typeface="Arial"/>
              </a:rPr>
              <a:t>9.40 –   9.45:</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Group divis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  </a:t>
            </a:r>
            <a:r>
              <a:rPr b="0" lang="en-GB" sz="3200" spc="-1" strike="noStrike">
                <a:solidFill>
                  <a:srgbClr val="ffcc66"/>
                </a:solidFill>
                <a:latin typeface="Arial"/>
                <a:ea typeface="Arial"/>
              </a:rPr>
              <a:t>9.45 –   9.5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Problem 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  </a:t>
            </a:r>
            <a:r>
              <a:rPr b="0" lang="en-GB" sz="3200" spc="-1" strike="noStrike">
                <a:solidFill>
                  <a:srgbClr val="ffcc66"/>
                </a:solidFill>
                <a:latin typeface="Arial"/>
                <a:ea typeface="Arial"/>
              </a:rPr>
              <a:t>9.50 – 10.1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Discussions in group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10 – 10.3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Collective evaluation</a:t>
            </a:r>
            <a:r>
              <a:rPr b="0" lang="en-GB"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me schedule workshop round 2</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30 – 10.4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40 – 10.45: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Group divis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45 – 10.5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Problem 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50 – 11.1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Discussions in group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10 – 11.3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Collective evaluatio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me schedule workshop round 3</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30 – 11.4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40 – 11.45: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Group divis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45 – 11.5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Problem 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50 – 12.1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Discussions in group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2.10 – 12.3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Collective evaluation</a:t>
            </a:r>
            <a:r>
              <a:rPr b="0" lang="nl-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1:   9.30 –   9.40</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2: 10.30 – 10.40</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3: </a:t>
            </a:r>
            <a:r>
              <a:rPr b="0" lang="en-GB" sz="3200" spc="-1" strike="noStrike">
                <a:solidFill>
                  <a:srgbClr val="ffcc66"/>
                </a:solidFill>
                <a:latin typeface="Arial"/>
                <a:ea typeface="Times New Roman"/>
              </a:rPr>
              <a:t>11.30 – 11.40</a:t>
            </a:r>
            <a:r>
              <a:rPr b="0" lang="nl-NL" sz="3200" spc="-1" strike="noStrike">
                <a:solidFill>
                  <a:srgbClr val="ffcc66"/>
                </a:solidFill>
                <a:latin typeface="Arial"/>
                <a:ea typeface="Arial"/>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The changes in today’s society demand creative and ‘out of the box’ thinking</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One way of creative thinking is brainstor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rainstorming</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rainstorming can be done in many differen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ys, such a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rging</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itating</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orfological analysi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ind mapping</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egative brainstorm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gative brainstorming</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This technique reverses the problem.</a:t>
            </a:r>
            <a:r>
              <a:rPr b="0" lang="nl-NL" sz="2800" spc="-1" strike="noStrike">
                <a:solidFill>
                  <a:srgbClr val="ffcc66"/>
                </a:solidFill>
                <a:latin typeface="Arial"/>
                <a:ea typeface="Times New Roman"/>
              </a:rPr>
              <a:t> </a:t>
            </a:r>
            <a:r>
              <a:rPr b="0" lang="en-US" sz="2800" spc="-1" strike="noStrike">
                <a:solidFill>
                  <a:srgbClr val="ffcc66"/>
                </a:solidFill>
                <a:latin typeface="Arial"/>
                <a:ea typeface="Times New Roman"/>
              </a:rPr>
              <a:t>I</a:t>
            </a:r>
            <a:r>
              <a:rPr b="0" lang="en-GB" sz="2800" spc="-1" strike="noStrike">
                <a:solidFill>
                  <a:srgbClr val="ffcc66"/>
                </a:solidFill>
                <a:latin typeface="Arial"/>
                <a:ea typeface="Times New Roman"/>
              </a:rPr>
              <a:t>n case of negative brainstorming the objective is not to brainstorm for solutions to the problem, but to brainstorm for ways to increase the problem as much as possible. The solutions for the initial problem can be found by reversing the ideas that have initially been generated to increase the problem as much as possible. Ethical limitations should be thrown overboard temporarily!!!</a:t>
            </a:r>
            <a:r>
              <a:rPr b="0" lang="nl-NL" sz="2800" spc="-1" strike="noStrike">
                <a:solidFill>
                  <a:srgbClr val="ffffff"/>
                </a:solidFill>
                <a:latin typeface="Arial"/>
                <a:ea typeface="Times New Roman"/>
              </a:rPr>
              <a:t> </a:t>
            </a:r>
            <a:r>
              <a:rPr b="0" lang="nl-N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roup divisi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1:   9.40 –   9.45</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2: 10.40 – 10.45</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3: 11.40 – 11.45</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The group is divided into 6 groups of 5 to 6 student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Every group receives a sheet of paper and a mark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blem introduction</a:t>
            </a:r>
            <a:endParaRPr b="0" lang="en-US" sz="4400" spc="-1" strike="noStrike">
              <a:solidFill>
                <a:srgbClr val="ffcc66"/>
              </a:solidFill>
              <a:latin typeface="Arial"/>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1:   9.45 –   9.5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2: 10.45 – 10.5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3: 11.45 – 11.50</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Groups 1 and 2 solve the problem of drunk driving</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Groups 3 and 4 solve the problem of unhealthy eating</a:t>
            </a:r>
            <a:r>
              <a:rPr b="0" lang="nl-NL" sz="2800" spc="-1" strike="noStrike">
                <a:solidFill>
                  <a:srgbClr val="ffcc66"/>
                </a:solidFill>
                <a:latin typeface="Arial"/>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Groups 5 and 6 solve the problem of workrelated stress</a:t>
            </a:r>
            <a:r>
              <a:rPr b="0" lang="nl-NL" sz="2800" spc="-1" strike="noStrike">
                <a:solidFill>
                  <a:srgbClr val="ffcc66"/>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22:52:09Z</dcterms:created>
  <dc:creator>maria</dc:creator>
  <dc:description/>
  <dc:language>en-US</dc:language>
  <cp:lastModifiedBy>maria</cp:lastModifiedBy>
  <dcterms:modified xsi:type="dcterms:W3CDTF">2010-06-12T19:17:29Z</dcterms:modified>
  <cp:revision>3</cp:revision>
  <dc:subject/>
  <dc:title>  Workshop</dc:title>
</cp:coreProperties>
</file>